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DBC-96BA-4E41-B934-63204EC2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3FC1-3B80-4D49-AACD-100C89E6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685E-529A-4FD9-A239-C5E2CE35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A3F3-BCC6-45C9-A8BA-8CD70888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446-CD2D-4AA4-A627-1EEA61D4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25E-41C4-4CC3-917B-20457DD4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E9B8-DC76-49CC-A2E0-5642EFCA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8EA-D4CD-4401-A698-E218A9AC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97EF-F813-43EF-A5A3-7656E1CB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4C0-A3EF-45FB-829F-9F6A1C01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426-71F0-4A2D-A0F2-46219084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9651-72FD-4220-9EFF-12D8A363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384A-5930-45AA-940E-53A3C4E146D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5360"/>
          <a:ext cx="60944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44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1T06:19:31Z</dcterms:created>
  <dc:creator>Takeshima Shinichirou</dc:creator>
  <dc:description/>
  <dc:language>en-US</dc:language>
  <cp:lastModifiedBy>Takeshima Shinichirou</cp:lastModifiedBy>
  <dcterms:modified xsi:type="dcterms:W3CDTF">2002-02-11T11:23:50Z</dcterms:modified>
  <cp:revision>2</cp:revision>
  <dc:subject/>
  <dc:title>PowerPoint プレゼンテーション</dc:title>
</cp:coreProperties>
</file>